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D38EB-F1D2-413B-805F-D66C26D66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D036-1249-4AA8-85BA-15F04A7D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A5A3C-2CD4-44EC-A859-308FBAD71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116F5-F427-4DD7-9342-A9E27582A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C972E-7DF0-440E-81C2-AEED4E5BD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B897B-5372-4926-A03D-59D5D2A98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00071-9F03-4D20-9FEC-A9A3EF93B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C5864-3A32-4351-9BB3-2A303B054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B922B-1BDC-490D-983F-D8E42004A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E0DF3-EF3D-4B89-B3F9-89E33716F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6BAB-F3A3-4A0B-98C0-B8617256A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4A8BD-04B7-4CB1-9725-649DDF131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FFC9E-410C-455D-8CCC-E55E72EC1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FC787-9BAC-41CD-9E50-A9FB87E27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34222-AB48-4026-9FA5-41704690E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F7BC3-5675-4F14-BFF5-B18FB3C16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B428F-FC12-482C-8C76-A98DAC4D6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846A7-C2FB-4574-9263-C757CFCEE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B3224-9940-41B3-A797-3D80FFBD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DC26A-1261-4429-BFCC-AB3FF2911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A44DD-C8A4-4687-83E5-D01C3324B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773E-F05D-4E99-9F57-31240251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68C5-A138-4AAF-A138-8510DAB5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6F86-248F-48B4-AA2C-F1CF53151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4887-6551-4342-86AB-FD67F6A6341D}"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B176-EEFE-4F7E-B43A-3CDAD254611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A</a:t>
            </a:r>
            <a:endParaRPr b="1" lang="en-US" sz="3600" spc="-1" strike="noStrike">
              <a:solidFill>
                <a:srgbClr val="006666"/>
              </a:solidFill>
              <a:latin typeface="Arial"/>
            </a:endParaRPr>
          </a:p>
        </p:txBody>
      </p:sp>
      <p:sp>
        <p:nvSpPr>
          <p:cNvPr id="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ctive : investigate :: Journalist : _______</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report, intrigue, instigate, insti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elationshi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 hearing :: tactile : ____________</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on, taste, touch, sme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elationshi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60552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allel structure practice:</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ot Parallel:</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said that he was a poor student because he wai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until the last minute to study for the exam, comple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his lab problems in a careless manner, and </a:t>
            </a:r>
            <a:r>
              <a:rPr b="1" i="1" lang="en-US" sz="2000" spc="-1" strike="noStrike">
                <a:solidFill>
                  <a:srgbClr val="003366"/>
                </a:solidFill>
                <a:latin typeface="Arial"/>
              </a:rPr>
              <a:t>his motivation was</a:t>
            </a:r>
            <a:r>
              <a:rPr b="0" lang="en-US" sz="2000" spc="-1" strike="noStrike">
                <a:solidFill>
                  <a:srgbClr val="003366"/>
                </a:solidFill>
                <a:latin typeface="Arial"/>
              </a:rPr>
              <a:t> low. </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rallel:</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said that he was a poor student because he wai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until the last minute to study for the exam, complet</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his lab problems in a careless manner, and lack</a:t>
            </a:r>
            <a:r>
              <a:rPr b="1" i="1" lang="en-US" sz="2000" spc="-1" strike="noStrike">
                <a:solidFill>
                  <a:srgbClr val="003366"/>
                </a:solidFill>
                <a:latin typeface="Arial"/>
              </a:rPr>
              <a:t>ed</a:t>
            </a:r>
            <a:r>
              <a:rPr b="0" i="1" lang="en-US" sz="2000" spc="-1" strike="noStrike">
                <a:solidFill>
                  <a:srgbClr val="003366"/>
                </a:solidFill>
                <a:latin typeface="Arial"/>
              </a:rPr>
              <a:t> </a:t>
            </a:r>
            <a:r>
              <a:rPr b="0" lang="en-US" sz="2000" spc="-1" strike="noStrike">
                <a:solidFill>
                  <a:srgbClr val="003366"/>
                </a:solidFill>
                <a:latin typeface="Arial"/>
              </a:rPr>
              <a:t>motivatio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ewrite: 5 mi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bout anyth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iom Practice:</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meant by the following idiom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essing in disgui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ip on your should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rop in the bucke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fuel to the fi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lap on the wri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same bo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ocabulary Practice 1-Fill in the blank with a vocabulary word that fits the sentence.</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incipal tried to _________ why the student was misbehav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opping her phone in the puddle ________ it usele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ath problem ________ Mrs. McCall, because she isn’t good at mat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_______ outside the castle didn’t flinch when the kids were laugh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r former governor is still trying to _______ prosecu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pter 7-TKAM questions</a:t>
            </a:r>
            <a:endParaRPr b="1" lang="en-US" sz="3600" spc="-1" strike="noStrike">
              <a:solidFill>
                <a:srgbClr val="006666"/>
              </a:solidFill>
              <a:latin typeface="Arial"/>
            </a:endParaRPr>
          </a:p>
        </p:txBody>
      </p:sp>
      <p:sp>
        <p:nvSpPr>
          <p:cNvPr id="105" name="PlaceHolder 2"/>
          <p:cNvSpPr>
            <a:spLocks noGrp="1"/>
          </p:cNvSpPr>
          <p:nvPr>
            <p:ph/>
          </p:nvPr>
        </p:nvSpPr>
        <p:spPr>
          <a:xfrm>
            <a:off x="609480" y="2209320"/>
            <a:ext cx="7925040" cy="34290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m has been acting odd since he went to get his pants that night. Why?</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do you think folded and sewed Jem’s pants?</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new objects did Scout and Jem find in the tree? </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o you think Boo Radley might be reaching out to the children?</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Jem so upset that the knothole is plugged?</a:t>
            </a:r>
            <a:endParaRPr b="0" lang="en-US" sz="2800" spc="-1" strike="noStrike">
              <a:solidFill>
                <a:srgbClr val="003366"/>
              </a:solidFill>
              <a:latin typeface="Arial"/>
            </a:endParaRPr>
          </a:p>
          <a:p>
            <a:pPr marL="301680" indent="-3016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o you think Jem is crying at the end of this chapter?</a:t>
            </a:r>
            <a:endParaRPr b="0" lang="en-US" sz="2800" spc="-1" strike="noStrike">
              <a:solidFill>
                <a:srgbClr val="003366"/>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for Chapter 8</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oes Atticus make the children leave the house and stand in front of the Radley house?</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o put the blanket around Scout’s shoulders and how did the person know she was cold?</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oes Atticus mean when he says, “looks like all of Maycomb was out tonight, in one way or another?”</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do they decide not to return the blanket at this time?</a:t>
            </a:r>
            <a:endParaRPr b="0" lang="en-US" sz="2400" spc="-1" strike="noStrike">
              <a:solidFill>
                <a:srgbClr val="003366"/>
              </a:solidFill>
              <a:latin typeface="Arial"/>
            </a:endParaRPr>
          </a:p>
          <a:p>
            <a:pPr marL="318960" indent="-3189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Miss Maudie’s reaction to her destroyed house? What does this show about her?</a:t>
            </a:r>
            <a:endParaRPr b="0" lang="en-US" sz="2400" spc="-1" strike="noStrike">
              <a:solidFill>
                <a:srgbClr val="003366"/>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riting assignment: Do the following</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o you suppose Mr. Walter Radley fills the knothole with cement? Write down the conversation that might have taken place between Arthur (Boo) Radley and his brother.  Each character must speak at least 3 tim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mework:</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hapter 9 for home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ember the cumulative quiz on Thursd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n mind the new AR for Februa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05:01:23Z</dcterms:created>
  <dc:creator>Angie</dc:creator>
  <dc:description/>
  <dc:language>en-US</dc:language>
  <cp:lastModifiedBy>rebecca</cp:lastModifiedBy>
  <dcterms:modified xsi:type="dcterms:W3CDTF">2009-02-03T14:26:21Z</dcterms:modified>
  <cp:revision>3</cp:revision>
  <dc:subject/>
  <dc:title>DOL</dc:title>
</cp:coreProperties>
</file>